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4C3-21C7-4EAF-900D-D0BF7ED4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BC0-BAA3-473A-87D6-AA9277DA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42F-6B5E-4936-A9D7-2D10D407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153-4CB6-4AE7-AFAE-1523B31E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9984-FF70-4EA3-92CF-28EADA09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F203-2398-4729-8198-101DE162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D173-D03B-4E43-BB88-7B8F68BC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F1C4-82EB-45F0-9DAD-9DE88554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E4B6-8B61-45CA-88F3-CF2020BB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0656-3A96-4C48-8EC6-D3C77403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A6BA-8D1C-4694-87E6-71529CA2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A1A-FAEE-4726-AE11-02E1C3D1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219B-F8F3-4D03-A147-511816B1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B4CE-AB22-48B3-944A-C9352608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1A08-06A6-49C1-9D03-DEDE387C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D1FB-95A4-4790-B41D-493796CE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2E02-0DA1-4EED-B8BD-FCEC9603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5E976-23B5-4085-8488-DAAF6C70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181A7-BBCA-4A79-900E-36CFE7A5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7171E-36BF-46E4-AB53-4DF91D4A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3F7A-F8F9-4E77-8BB2-4C75B0ED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FEAA6-D1F2-4C7E-8A8E-4623DA0A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809-F8F5-4E3A-A190-D87C8F5C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5A20A-5B17-4169-99F3-1CBE8A38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34FF1-BD30-4938-BA64-5302D646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7F4BD-EC74-41A1-9646-ED90E70A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AC185-2030-4610-AD01-7C5CEFBA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C387A-3974-4DC6-AA5C-C2E8AE53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BC24A-94C9-4CE3-A8F8-5C350BF8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95D8-2075-48C5-B289-9BC2BA29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A8308-EF1D-492C-9560-815B2161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88DE5-DFE7-4F45-B7D4-84AC4F87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3576A-0E79-43A4-92D7-6A7E2518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523-C94D-4FAD-9C74-CFA5CBEE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3F85E-C196-4F93-9837-A85B3207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76042-786F-4A7A-A36D-B793F530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A08D6-0242-4DB1-8D98-AE6718AE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BE937-C788-48F9-B622-D71F9AB8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4C737-4513-4474-8F83-264335C9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7D24C-ACEB-4943-ACF7-9AE29414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EEC8-067A-4BA3-9C24-F1DDD774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419E5-E321-4B62-A26F-C30DDB66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DDD90-0AF9-4AC7-B19B-0388D8AC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981-79EA-49A0-8BA6-CA9D4B0F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82F-8E5C-4EAC-AA7A-D6F2D98A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A91-4393-4EC8-B636-4927C0D5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D41-21DF-4051-B351-2683C61C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040-5361-4AB2-953A-11E00F28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D1C2-F193-4274-86CE-CDAAA30BAA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F17E-EACC-4595-B390-F178354FB1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C264-F3BE-4823-A13E-95D932C86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DD8D-EAAF-4C5F-814C-7A96B28EE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4th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77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FREE!!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Easily download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Non-credible autho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Sometimes contains virus’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Lack of tech suppor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1318"/>
                </a:solidFill>
                <a:latin typeface="Tahoma"/>
              </a:rPr>
              <a:t>Freeware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828800" y="20570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Available to anyon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Open to change / improve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Sharing changes = better softwar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1318"/>
                </a:solidFill>
                <a:latin typeface="Tahoma"/>
              </a:rPr>
              <a:t>Open-source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638680" y="2743200"/>
            <a:ext cx="3200400" cy="2503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77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FREE!!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Collaborative develop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Lack of accounta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Lack of financial benefit restricts growt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1318"/>
                </a:solidFill>
                <a:latin typeface="Tahoma"/>
              </a:rPr>
              <a:t>Open-source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Menaces on the Ne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828800" y="1523880"/>
            <a:ext cx="677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oftware (programs) that infiltrates comput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o consent from the computer owner / u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ostile, malicious or just anno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885840" y="45720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Malware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981080" y="2438280"/>
            <a:ext cx="677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adboys of the ne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us’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ywar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war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580920" y="91440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Malware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828800" y="1523520"/>
            <a:ext cx="6778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puter program that reprodu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10,000 today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troy files, take up space, corrupt operating syste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er in downloads or email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248160" y="304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Viru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828800" y="1523520"/>
            <a:ext cx="6778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oftware that collects and shares personal info without con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sites visite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dit card inf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248160" y="304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pyware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828800" y="1523520"/>
            <a:ext cx="6778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oftware that plays ads on your comp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ps commo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er with many file-sharing programs (Kazaa, etc.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ser toolba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248160" y="304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Adware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Technology Lesson Planning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00800" y="228600"/>
            <a:ext cx="2362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52480" y="10666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overview– Purchase, Shareware, Freeware, 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aces on the Net; virus’ and spy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ing text, data,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ing Technology in Less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eyboarding – the new handwri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cursive writing lost to the ages?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epends on technical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corporates other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Embedding Technology in Your Classroom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n facilitate the move to constructivist, child-centered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munity of Learners” – lines between “student” and “teacher” bl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Embedding Technology in Your Classroom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dentif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s (how many? type? Internet?  Software?)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eras (still and video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pheral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Integrating Technology in Your Classroom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erate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our old lesson plans</a:t>
            </a: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olleagues</a:t>
            </a: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Integrating Technology in Your Classroom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ject-bas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directed / teacher assis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 down school walls – reach into community / worl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Integrating Technology in Your Classroom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Word Processing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Very basic form of presenting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Word Process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mon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S Wor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dperfec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enOffice.org (free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Word Process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py and paste (mark, ‘Edit-Copy’, ‘Edit-paste’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 can be made larger / smaller via ‘Format-Font’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ld, italic, underlin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 colour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Word Process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be placed in document via ‘Edit-Copy’, ‘Edit-Paste’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mat-Picture’ will allow size and layout change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Word Process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Types of Software      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in School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 with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udent authorship (creative writing, etc.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earch, repor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ing text for copy/paste to other documen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Word Process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sy to use, simpl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ting / assessment easy under ‘Insert-Comment’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be printed, manipulated prior to posting on web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Word Process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ic information only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multi-media (video, etc.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Word Process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chnology is embraced by some who see it as a panacea for creating a global environment that liberates and democratizes. Others see technology as an evil that permeates our culture with filth and is fraught with dan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ere does the truth lie? Is technology a necessary evil or a powerful tool for positive social chang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me with your personal blog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d to question on class discussion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Paper Assignment – read articles, watch video, begin respons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look at lesson / technology plan and group projects next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81080" y="2438280"/>
            <a:ext cx="677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oftware in schools comes from many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crosoft, Apple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all compani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3580920" y="91440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oftware in the School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82844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User generally pays for licens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Limits on use, modification, copy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Most common for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1318"/>
                </a:solidFill>
                <a:latin typeface="Tahoma"/>
              </a:rPr>
              <a:t>Proprietary (purchase)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295800" cy="2202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1096920" cy="1371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77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Financial return encourages innov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Support may ce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1318"/>
                </a:solidFill>
                <a:latin typeface="Tahoma"/>
              </a:rPr>
              <a:t>Proprietary (purchase)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828440" y="2057040"/>
            <a:ext cx="3505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User downloads for trial before pay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Try before you buy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1318"/>
                </a:solidFill>
                <a:latin typeface="Tahoma"/>
              </a:rPr>
              <a:t>Shareware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15000" y="2819520"/>
            <a:ext cx="2563920" cy="312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77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Users can test drive softwa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Popular with gam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Software may stop working if payment not receiv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High degree of support lo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1318"/>
                </a:solidFill>
                <a:latin typeface="Tahoma"/>
              </a:rPr>
              <a:t>Shareware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828800" y="20570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Free for anyone to us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Copyright continues with auth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Give something to the community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1318"/>
                </a:solidFill>
                <a:latin typeface="Tahoma"/>
              </a:rPr>
              <a:t>Freeware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172200" y="2590920"/>
            <a:ext cx="238140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2-04T20:30:28Z</dcterms:modified>
  <cp:revision>18</cp:revision>
  <dc:subject/>
  <dc:title>Welcome to  ED3862</dc:title>
</cp:coreProperties>
</file>